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gif" ContentType="image/gif"/>
  <Override PartName="/ppt/media/image20.jpeg" ContentType="image/jpeg"/>
  <Override PartName="/ppt/media/image25.gif" ContentType="image/gif"/>
  <Override PartName="/ppt/media/image6.jpeg" ContentType="image/jpeg"/>
  <Override PartName="/ppt/media/image24.gif" ContentType="image/gif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7.gif" ContentType="image/gif"/>
  <Override PartName="/ppt/media/image22.jpeg" ContentType="image/jpeg"/>
  <Override PartName="/ppt/media/image39.png" ContentType="image/png"/>
  <Override PartName="/ppt/media/image32.png" ContentType="image/png"/>
  <Override PartName="/ppt/media/image33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45.png" ContentType="image/png"/>
  <Override PartName="/ppt/media/image44.jpeg" ContentType="image/jpeg"/>
  <Override PartName="/ppt/media/image34.png" ContentType="image/png"/>
  <Override PartName="/ppt/media/image13.jpeg" ContentType="image/jpeg"/>
  <Override PartName="/ppt/media/image46.png" ContentType="image/png"/>
  <Override PartName="/ppt/media/image23.png" ContentType="image/png"/>
  <Override PartName="/ppt/media/image30.gif" ContentType="image/gif"/>
  <Override PartName="/ppt/media/image14.jpeg" ContentType="image/jpeg"/>
  <Override PartName="/ppt/media/image28.gif" ContentType="image/gif"/>
  <Override PartName="/ppt/media/image12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7.jpeg" ContentType="image/jpeg"/>
  <Override PartName="/ppt/media/image40.png" ContentType="image/png"/>
  <Override PartName="/ppt/media/image4.jpeg" ContentType="image/jpe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22A-8EA6-4DCA-A8AE-D9BA9FFF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025-4BF2-4B35-8DB6-34CA8DC8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C72-5C04-42C1-A547-785ABC70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C55-F4C6-4B9A-92F7-A5B59A13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483-F1A9-4117-87CD-A1E26F6D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AE9-DB00-4409-B6A9-89057CEA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E73-EA2F-4D43-A9CD-6F683C53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FF3-D4CC-4529-9294-6B3ADA0C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0F4-425B-4963-9D79-0DC8258F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9AF-51E3-4AA0-BD4A-666F4B87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6FD-87C3-4A15-A4A1-301925A4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BB3-2AFB-4883-BCEF-AB73B6AB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0287-970D-4F8B-A744-82CC603FF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image" Target="../media/image30.gif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ookman Old Style"/>
              </a:rPr>
              <a:t>Dinner’s rea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20707" t="17249" r="21646" b="14721"/>
          <a:stretch/>
        </p:blipFill>
        <p:spPr>
          <a:xfrm>
            <a:off x="684360" y="2060640"/>
            <a:ext cx="4392360" cy="3960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19640" y="2781360"/>
            <a:ext cx="354492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o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cc0000"/>
                </a:solidFill>
                <a:latin typeface="Bookman Old Style"/>
              </a:rPr>
              <a:t>u: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Comic Sans MS"/>
              </a:rPr>
              <a:t>￥</a:t>
            </a:r>
            <a:r>
              <a:rPr b="1" lang="en-US" sz="4800" spc="-1" strike="noStrike">
                <a:solidFill>
                  <a:srgbClr val="99cc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3500280"/>
            <a:ext cx="5760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15743" t="33179" r="55471" b="28686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66600" y="5897520"/>
            <a:ext cx="8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Bookman Old Style"/>
              </a:rPr>
              <a:t>￥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66600" y="4527720"/>
            <a:ext cx="8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Bookman Old Style"/>
              </a:rPr>
              <a:t>￥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9280" y="2924280"/>
            <a:ext cx="11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Bookman Old Style"/>
              </a:rPr>
              <a:t>￥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1880" y="4653000"/>
            <a:ext cx="8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Bookman Old Style"/>
              </a:rPr>
              <a:t>￥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04560" y="2852640"/>
            <a:ext cx="11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Bookman Old Style"/>
              </a:rPr>
              <a:t>￥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-19080"/>
            <a:ext cx="748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What would you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’d like som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57006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9999"/>
                </a:solidFill>
                <a:uFillTx/>
                <a:latin typeface="Comic Sans MS"/>
              </a:rPr>
              <a:t>Group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189080" y="3144960"/>
            <a:ext cx="9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485440" y="2300400"/>
            <a:ext cx="122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2268360" y="2708280"/>
            <a:ext cx="289080" cy="1944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269160" y="2279520"/>
            <a:ext cx="43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h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sh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w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483640" y="4179960"/>
            <a:ext cx="116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264840" y="4167360"/>
            <a:ext cx="533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  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  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cil  g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 l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971640" y="765000"/>
            <a:ext cx="25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et's read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would  li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would  like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意思是“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愿意，想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”，常被用来委婉地表达请求或表达个人的想法、看法或愿望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would  l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woul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情态动词，它不受主语人称和（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复）数的影响，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would  like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后面常接名词或代词作宾语，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would like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用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wan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来替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would  like  some  nood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want  some  nood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想要一些面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07600" y="650880"/>
            <a:ext cx="589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Pass me the </a:t>
            </a:r>
            <a:r>
              <a:rPr b="1" lang="en-US" sz="4400" spc="-1" strike="noStrike">
                <a:solidFill>
                  <a:srgbClr val="009999"/>
                </a:solidFill>
                <a:latin typeface="Bookman Old Style"/>
              </a:rPr>
              <a:t>spoon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pleas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160" y="2490840"/>
            <a:ext cx="60008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920" y="252108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302920" y="650880"/>
            <a:ext cx="53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Pass me the </a:t>
            </a:r>
            <a:r>
              <a:rPr b="1" lang="en-US" sz="4400" spc="-1" strike="noStrike">
                <a:solidFill>
                  <a:srgbClr val="009999"/>
                </a:solidFill>
                <a:latin typeface="Bookman Old Style"/>
              </a:rPr>
              <a:t>fork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pleas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920" y="2637000"/>
            <a:ext cx="6985080" cy="424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8080" y="650880"/>
            <a:ext cx="55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Pass me the </a:t>
            </a:r>
            <a:r>
              <a:rPr b="1" lang="en-US" sz="4400" spc="-1" strike="noStrike">
                <a:solidFill>
                  <a:srgbClr val="009999"/>
                </a:solidFill>
                <a:latin typeface="Bookman Old Style"/>
              </a:rPr>
              <a:t>bowl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pleas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4920" y="2492280"/>
            <a:ext cx="6821640" cy="4324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59320" y="650880"/>
            <a:ext cx="716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Pass me the </a:t>
            </a:r>
            <a:r>
              <a:rPr b="1" lang="en-US" sz="4400" spc="-1" strike="noStrike">
                <a:solidFill>
                  <a:srgbClr val="009999"/>
                </a:solidFill>
                <a:latin typeface="Bookman Old Style"/>
              </a:rPr>
              <a:t>chopsticks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pleas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4920" y="2133720"/>
            <a:ext cx="6340320" cy="4680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19480" y="650880"/>
            <a:ext cx="563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Pass me the </a:t>
            </a:r>
            <a:r>
              <a:rPr b="1" lang="en-US" sz="4400" spc="-1" strike="noStrike">
                <a:solidFill>
                  <a:srgbClr val="009999"/>
                </a:solidFill>
                <a:latin typeface="Bookman Old Style"/>
              </a:rPr>
              <a:t>knife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pleas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000" y="117360"/>
            <a:ext cx="8209080" cy="63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our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wate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mell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coffe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aste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te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ow me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milk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rink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juic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ut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brea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ake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cak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at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hot do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ow me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hamburge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mell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chicke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ake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cak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ass me the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French frie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炸薯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5  Dinner's 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10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omic Sans MS"/>
              </a:rPr>
              <a:t>Mum:What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omic Sans MS"/>
              </a:rPr>
              <a:t>Mike:I’d like some be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ZhangPeng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I’d like some vege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99cc00"/>
                </a:solidFill>
                <a:latin typeface="Bookman Old Style"/>
              </a:rPr>
              <a:t>Wu Yi fan:Would you like a kinfe and   f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Bookman Old Style"/>
              </a:rPr>
              <a:t>Sarah:No,thank,I can use chopsti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1773360"/>
            <a:ext cx="845964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Bookman Old Style"/>
              </a:rPr>
              <a:t>Mike: Mum,I'm hungry.What's for dinn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ookman Old Style"/>
              </a:rPr>
              <a:t>Mum: What would you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Bookman Old Style"/>
              </a:rPr>
              <a:t>Mike:I</a:t>
            </a:r>
            <a:r>
              <a:rPr b="1" lang="zh-CN" sz="4400" spc="-1" strike="noStrike">
                <a:solidFill>
                  <a:srgbClr val="99cc00"/>
                </a:solidFill>
                <a:latin typeface="Times New Roman"/>
              </a:rPr>
              <a:t>'d </a:t>
            </a:r>
            <a:r>
              <a:rPr b="1" lang="zh-CN" sz="4400" spc="-1" strike="noStrike">
                <a:solidFill>
                  <a:srgbClr val="99cc00"/>
                </a:solidFill>
                <a:latin typeface="Bookman Old Style"/>
              </a:rPr>
              <a:t>like some soup and bread,ple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422280"/>
            <a:ext cx="450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Let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's ta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Let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's tal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ookman Old Style"/>
              </a:rPr>
              <a:t>Mum: What would you like for dinn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Bookman Old Style"/>
              </a:rPr>
              <a:t>Dad:Some fish and vegetables,ple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ookman Old Style"/>
              </a:rPr>
              <a:t>Mum:Dinner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's  read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Bookman Old Style"/>
              </a:rPr>
              <a:t>Mike and Dad: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63640" y="1125360"/>
            <a:ext cx="63356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Arial"/>
              </a:rPr>
              <a:t>Play  a  game</a:t>
            </a:r>
            <a:endParaRPr b="1" lang="en-US" sz="1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gifmb072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SP_039"/>
          <p:cNvPicPr/>
          <p:nvPr/>
        </p:nvPicPr>
        <p:blipFill>
          <a:blip r:embed="rId3"/>
          <a:stretch/>
        </p:blipFill>
        <p:spPr>
          <a:xfrm>
            <a:off x="3059280" y="3213000"/>
            <a:ext cx="2087280" cy="2608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SP_048"/>
          <p:cNvPicPr/>
          <p:nvPr/>
        </p:nvPicPr>
        <p:blipFill>
          <a:blip r:embed="rId4"/>
          <a:stretch/>
        </p:blipFill>
        <p:spPr>
          <a:xfrm>
            <a:off x="2916360" y="2565360"/>
            <a:ext cx="3095640" cy="345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P_102"/>
          <p:cNvPicPr/>
          <p:nvPr/>
        </p:nvPicPr>
        <p:blipFill>
          <a:blip r:embed="rId5"/>
          <a:stretch/>
        </p:blipFill>
        <p:spPr>
          <a:xfrm>
            <a:off x="1547640" y="3429000"/>
            <a:ext cx="4608720" cy="1844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2556000" y="1052640"/>
            <a:ext cx="24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hot d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700360" y="1074600"/>
            <a:ext cx="24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p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771640" y="1052640"/>
            <a:ext cx="244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mil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771640" y="1052640"/>
            <a:ext cx="244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Co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268360" y="1052640"/>
            <a:ext cx="35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hambur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SG_004"/>
          <p:cNvPicPr/>
          <p:nvPr/>
        </p:nvPicPr>
        <p:blipFill>
          <a:blip r:embed="rId6"/>
          <a:stretch/>
        </p:blipFill>
        <p:spPr>
          <a:xfrm>
            <a:off x="1692360" y="3213000"/>
            <a:ext cx="2087640" cy="278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SP_045"/>
          <p:cNvPicPr/>
          <p:nvPr/>
        </p:nvPicPr>
        <p:blipFill>
          <a:blip r:embed="rId7"/>
          <a:stretch/>
        </p:blipFill>
        <p:spPr>
          <a:xfrm>
            <a:off x="1763640" y="2924280"/>
            <a:ext cx="3240000" cy="303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SP_108"/>
          <p:cNvPicPr/>
          <p:nvPr/>
        </p:nvPicPr>
        <p:blipFill>
          <a:blip r:embed="rId8"/>
          <a:stretch/>
        </p:blipFill>
        <p:spPr>
          <a:xfrm>
            <a:off x="3335400" y="3500280"/>
            <a:ext cx="1236600" cy="2324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4"/>
          <p:cNvSpPr/>
          <p:nvPr/>
        </p:nvSpPr>
        <p:spPr>
          <a:xfrm>
            <a:off x="2843280" y="1052640"/>
            <a:ext cx="24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ju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apple1"/>
          <p:cNvPicPr/>
          <p:nvPr/>
        </p:nvPicPr>
        <p:blipFill>
          <a:blip r:embed="rId9"/>
          <a:stretch/>
        </p:blipFill>
        <p:spPr>
          <a:xfrm>
            <a:off x="3348000" y="4221000"/>
            <a:ext cx="1801800" cy="1737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6"/>
          <p:cNvSpPr/>
          <p:nvPr/>
        </p:nvSpPr>
        <p:spPr>
          <a:xfrm>
            <a:off x="2700360" y="1052640"/>
            <a:ext cx="24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ap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07h"/>
          <p:cNvPicPr/>
          <p:nvPr/>
        </p:nvPicPr>
        <p:blipFill>
          <a:blip r:embed="rId10"/>
          <a:srcRect l="12597" t="19566" r="15604" b="19566"/>
          <a:stretch/>
        </p:blipFill>
        <p:spPr>
          <a:xfrm>
            <a:off x="2340000" y="3716280"/>
            <a:ext cx="2736720" cy="2376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8"/>
          <p:cNvSpPr/>
          <p:nvPr/>
        </p:nvSpPr>
        <p:spPr>
          <a:xfrm>
            <a:off x="2700360" y="105264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ban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9"/>
          <p:cNvSpPr txBox="1"/>
          <p:nvPr/>
        </p:nvSpPr>
        <p:spPr>
          <a:xfrm>
            <a:off x="1515960" y="2189160"/>
            <a:ext cx="442440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看谁说得快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2" name="页脚占位符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3" descr="2008471604265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900000" y="107460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I’d like som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26"/>
          <p:cNvSpPr txBox="1"/>
          <p:nvPr/>
        </p:nvSpPr>
        <p:spPr>
          <a:xfrm>
            <a:off x="1057320" y="414360"/>
            <a:ext cx="3154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Comic Sans MS"/>
              </a:rPr>
              <a:t>Learn and s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6" name="Picture 28" descr="u=3996380606,3444332566&amp;fm=21&amp;gp=0"/>
          <p:cNvPicPr/>
          <p:nvPr/>
        </p:nvPicPr>
        <p:blipFill>
          <a:blip r:embed="rId3"/>
          <a:stretch/>
        </p:blipFill>
        <p:spPr>
          <a:xfrm>
            <a:off x="900000" y="1989000"/>
            <a:ext cx="221940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6608733_081212047000_2"/>
          <p:cNvPicPr/>
          <p:nvPr/>
        </p:nvPicPr>
        <p:blipFill>
          <a:blip r:embed="rId4"/>
          <a:stretch/>
        </p:blipFill>
        <p:spPr>
          <a:xfrm>
            <a:off x="3132000" y="2276640"/>
            <a:ext cx="1944720" cy="1293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5713677_120053032348_2"/>
          <p:cNvPicPr/>
          <p:nvPr/>
        </p:nvPicPr>
        <p:blipFill>
          <a:blip r:embed="rId5"/>
          <a:srcRect l="60424" t="1976" r="0" b="68802"/>
          <a:stretch/>
        </p:blipFill>
        <p:spPr>
          <a:xfrm>
            <a:off x="4716360" y="2205000"/>
            <a:ext cx="1656000" cy="1222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4" descr="5713677_120053032348_2"/>
          <p:cNvPicPr/>
          <p:nvPr/>
        </p:nvPicPr>
        <p:blipFill>
          <a:blip r:embed="rId6"/>
          <a:srcRect l="54580" t="31198" r="4471" b="41516"/>
          <a:stretch/>
        </p:blipFill>
        <p:spPr>
          <a:xfrm>
            <a:off x="5219640" y="4005360"/>
            <a:ext cx="1513080" cy="100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7" descr="u=3587220219,3808311894&amp;fm=59"/>
          <p:cNvPicPr/>
          <p:nvPr/>
        </p:nvPicPr>
        <p:blipFill>
          <a:blip r:embed="rId7"/>
          <a:stretch/>
        </p:blipFill>
        <p:spPr>
          <a:xfrm>
            <a:off x="2916360" y="3789360"/>
            <a:ext cx="1871640" cy="124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9" descr="u=1235572427,4206341335&amp;fm=59"/>
          <p:cNvPicPr/>
          <p:nvPr/>
        </p:nvPicPr>
        <p:blipFill>
          <a:blip r:embed="rId8"/>
          <a:stretch/>
        </p:blipFill>
        <p:spPr>
          <a:xfrm>
            <a:off x="1258920" y="3500280"/>
            <a:ext cx="1387440" cy="140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3" descr="2786001_164706860000_2"/>
          <p:cNvPicPr/>
          <p:nvPr/>
        </p:nvPicPr>
        <p:blipFill>
          <a:blip r:embed="rId9"/>
          <a:stretch/>
        </p:blipFill>
        <p:spPr>
          <a:xfrm>
            <a:off x="6156360" y="2060640"/>
            <a:ext cx="2232000" cy="1585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5" descr="2447972_103425002_2"/>
          <p:cNvPicPr/>
          <p:nvPr/>
        </p:nvPicPr>
        <p:blipFill>
          <a:blip r:embed="rId10"/>
          <a:srcRect l="31416" t="3398" r="32023" b="0"/>
          <a:stretch/>
        </p:blipFill>
        <p:spPr>
          <a:xfrm>
            <a:off x="1979640" y="4941720"/>
            <a:ext cx="824040" cy="1452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u=2002092842,1277048515&amp;fm=21&amp;gp=0"/>
          <p:cNvPicPr/>
          <p:nvPr/>
        </p:nvPicPr>
        <p:blipFill>
          <a:blip r:embed="rId11"/>
          <a:stretch/>
        </p:blipFill>
        <p:spPr>
          <a:xfrm>
            <a:off x="3492360" y="501336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5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3916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8"/>
          <p:cNvSpPr txBox="1"/>
          <p:nvPr/>
        </p:nvSpPr>
        <p:spPr>
          <a:xfrm>
            <a:off x="611280" y="260280"/>
            <a:ext cx="2867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Comic Sans MS"/>
              </a:rPr>
              <a:t>Read and s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’d like so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6" descr="u=2774809994,520270651&amp;fm=21&amp;gp=0"/>
          <p:cNvPicPr/>
          <p:nvPr/>
        </p:nvPicPr>
        <p:blipFill>
          <a:blip r:embed="rId2"/>
          <a:stretch/>
        </p:blipFill>
        <p:spPr>
          <a:xfrm>
            <a:off x="1042920" y="1569960"/>
            <a:ext cx="215280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u=3266687678,19479779&amp;fm=21&amp;gp=0"/>
          <p:cNvPicPr/>
          <p:nvPr/>
        </p:nvPicPr>
        <p:blipFill>
          <a:blip r:embed="rId3"/>
          <a:srcRect l="0" t="15117" r="0" b="0"/>
          <a:stretch/>
        </p:blipFill>
        <p:spPr>
          <a:xfrm>
            <a:off x="3635280" y="1712880"/>
            <a:ext cx="1905120" cy="121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u=2574917797,3700002435&amp;fm=21&amp;gp=0"/>
          <p:cNvPicPr/>
          <p:nvPr/>
        </p:nvPicPr>
        <p:blipFill>
          <a:blip r:embed="rId4"/>
          <a:stretch/>
        </p:blipFill>
        <p:spPr>
          <a:xfrm>
            <a:off x="6012000" y="149688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1045080" y="2895480"/>
            <a:ext cx="217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chick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3925440" y="289548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bee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6063120" y="2895480"/>
            <a:ext cx="214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od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9" descr="01300000908111128624427009706"/>
          <p:cNvPicPr/>
          <p:nvPr/>
        </p:nvPicPr>
        <p:blipFill>
          <a:blip r:embed="rId5"/>
          <a:stretch/>
        </p:blipFill>
        <p:spPr>
          <a:xfrm>
            <a:off x="1185840" y="3668760"/>
            <a:ext cx="1657440" cy="1430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5736135_100756097193_2"/>
          <p:cNvPicPr/>
          <p:nvPr/>
        </p:nvPicPr>
        <p:blipFill>
          <a:blip r:embed="rId6"/>
          <a:stretch/>
        </p:blipFill>
        <p:spPr>
          <a:xfrm>
            <a:off x="3132000" y="3381480"/>
            <a:ext cx="2664000" cy="1776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1434945_075742002_2"/>
          <p:cNvPicPr/>
          <p:nvPr/>
        </p:nvPicPr>
        <p:blipFill>
          <a:blip r:embed="rId7"/>
          <a:stretch/>
        </p:blipFill>
        <p:spPr>
          <a:xfrm>
            <a:off x="6084720" y="3452760"/>
            <a:ext cx="2305080" cy="1646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4"/>
          <p:cNvSpPr/>
          <p:nvPr/>
        </p:nvSpPr>
        <p:spPr>
          <a:xfrm>
            <a:off x="1297800" y="483696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so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5"/>
          <p:cNvSpPr/>
          <p:nvPr/>
        </p:nvSpPr>
        <p:spPr>
          <a:xfrm>
            <a:off x="3203640" y="4869000"/>
            <a:ext cx="28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vegetab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6"/>
          <p:cNvSpPr/>
          <p:nvPr/>
        </p:nvSpPr>
        <p:spPr>
          <a:xfrm>
            <a:off x="6648480" y="4869000"/>
            <a:ext cx="11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r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rcRect l="11250" t="19752" r="12210" b="17249"/>
          <a:stretch/>
        </p:blipFill>
        <p:spPr>
          <a:xfrm>
            <a:off x="1044720" y="404640"/>
            <a:ext cx="2158920" cy="1800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20707" t="23527" r="22606" b="23527"/>
          <a:stretch/>
        </p:blipFill>
        <p:spPr>
          <a:xfrm>
            <a:off x="1260360" y="2708280"/>
            <a:ext cx="1727280" cy="165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rcRect l="15041" t="18500" r="12210" b="15973"/>
          <a:stretch/>
        </p:blipFill>
        <p:spPr>
          <a:xfrm>
            <a:off x="1260360" y="4797360"/>
            <a:ext cx="1943280" cy="1343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054760" y="103032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Bookman Old Style"/>
              </a:rPr>
              <a:t>nood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5013360"/>
            <a:ext cx="311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Bookman Old Style"/>
              </a:rPr>
              <a:t>chick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14172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Bookman Old Style"/>
              </a:rPr>
              <a:t>vegetab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133720"/>
            <a:ext cx="144144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276720" y="4076640"/>
            <a:ext cx="1422360" cy="1225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987640" y="1486080"/>
            <a:ext cx="1873440" cy="20872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's  would  you 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I’d like some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beef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noodles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11250" t="31114" r="9376" b="23527"/>
          <a:stretch/>
        </p:blipFill>
        <p:spPr>
          <a:xfrm>
            <a:off x="1332000" y="1557360"/>
            <a:ext cx="2519280" cy="2158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rcRect l="20707" t="23527" r="22606" b="23527"/>
          <a:stretch/>
        </p:blipFill>
        <p:spPr>
          <a:xfrm>
            <a:off x="5003640" y="1486080"/>
            <a:ext cx="33116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完成一份测试卷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背诵单词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et's talk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165000">
            <a:off x="755280" y="1699920"/>
            <a:ext cx="2149560" cy="173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1246600">
            <a:off x="1692360" y="3502080"/>
            <a:ext cx="2066760" cy="16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11250" t="19752" r="12210" b="17249"/>
          <a:stretch/>
        </p:blipFill>
        <p:spPr>
          <a:xfrm>
            <a:off x="2627280" y="162864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20707" t="23527" r="22606" b="23527"/>
          <a:stretch/>
        </p:blipFill>
        <p:spPr>
          <a:xfrm>
            <a:off x="4356000" y="3141720"/>
            <a:ext cx="1727280" cy="165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rcRect l="15041" t="18500" r="12210" b="15973"/>
          <a:stretch/>
        </p:blipFill>
        <p:spPr>
          <a:xfrm>
            <a:off x="3348000" y="4797360"/>
            <a:ext cx="1943280" cy="1343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52360" y="549360"/>
            <a:ext cx="69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six o’clock. What’s for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inn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6877440" y="16286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6374520" y="234936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c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400">
            <a:off x="6516720" y="3141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sh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373800" y="4005360"/>
            <a:ext cx="18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od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6013080" y="5157720"/>
            <a:ext cx="24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ege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2531170_055817498901_2"/>
          <p:cNvPicPr/>
          <p:nvPr/>
        </p:nvPicPr>
        <p:blipFill>
          <a:blip r:embed="rId7"/>
          <a:srcRect l="52051" t="37709" r="25800" b="37153"/>
          <a:stretch/>
        </p:blipFill>
        <p:spPr>
          <a:xfrm>
            <a:off x="7164360" y="117360"/>
            <a:ext cx="18734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11517" t="9728" r="8762" b="11540"/>
          <a:stretch/>
        </p:blipFill>
        <p:spPr>
          <a:xfrm rot="21202200">
            <a:off x="324000" y="620640"/>
            <a:ext cx="8424720" cy="548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21167400">
            <a:off x="2987640" y="980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rot="21165000">
            <a:off x="755280" y="1699920"/>
            <a:ext cx="2149560" cy="173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1320400">
            <a:off x="2987640" y="26337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￥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21246600">
            <a:off x="2409840" y="3708360"/>
            <a:ext cx="2066760" cy="1692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21320400">
            <a:off x="704160" y="500904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￥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 rot="21185400">
            <a:off x="4716000" y="1472760"/>
            <a:ext cx="1676520" cy="180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21320400">
            <a:off x="6588000" y="2276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ice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￥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 rot="21223200">
            <a:off x="6426360" y="3516480"/>
            <a:ext cx="1817640" cy="1857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21320400">
            <a:off x="4932360" y="50101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k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￥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492360" y="2997360"/>
            <a:ext cx="49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ookman Old Style"/>
              </a:rPr>
              <a:t>Let’s lear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rcRect l="11250" t="31114" r="9376" b="23527"/>
          <a:stretch/>
        </p:blipFill>
        <p:spPr>
          <a:xfrm>
            <a:off x="468360" y="3357720"/>
            <a:ext cx="4680000" cy="259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635800" y="3429000"/>
            <a:ext cx="311292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bee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/i: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Comic Sans MS"/>
              </a:rPr>
              <a:t>￥</a:t>
            </a:r>
            <a:r>
              <a:rPr b="1" lang="en-US" sz="4800" spc="-1" strike="noStrike">
                <a:solidFill>
                  <a:srgbClr val="99cc00"/>
                </a:solidFill>
                <a:latin typeface="Comic Sans MS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9890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The meat of the bull or 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149720"/>
            <a:ext cx="5763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20707" t="23527" r="22606" b="23527"/>
          <a:stretch/>
        </p:blipFill>
        <p:spPr>
          <a:xfrm>
            <a:off x="900000" y="2565360"/>
            <a:ext cx="4319640" cy="3025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651640" y="2781360"/>
            <a:ext cx="311292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oodle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cc0000"/>
                </a:solidFill>
                <a:latin typeface="Bookman Old Style"/>
              </a:rPr>
              <a:t>u</a:t>
            </a:r>
            <a:r>
              <a:rPr b="1" lang="en-US" sz="4800" spc="-1" strike="noStrike">
                <a:solidFill>
                  <a:srgbClr val="cc0000"/>
                </a:solidFill>
                <a:latin typeface="Bookman Old Style"/>
              </a:rPr>
              <a:t>: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Comic Sans MS"/>
              </a:rPr>
              <a:t>￥</a:t>
            </a:r>
            <a:r>
              <a:rPr b="1" lang="en-US" sz="4800" spc="-1" strike="noStrike">
                <a:solidFill>
                  <a:srgbClr val="99cc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3500280"/>
            <a:ext cx="6480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11250" t="19752" r="12210" b="17249"/>
          <a:stretch/>
        </p:blipFill>
        <p:spPr>
          <a:xfrm>
            <a:off x="468360" y="3284640"/>
            <a:ext cx="4968720" cy="306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780160" y="3703680"/>
            <a:ext cx="311292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ick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4800" spc="-1" strike="noStrike">
                <a:solidFill>
                  <a:srgbClr val="cc0000"/>
                </a:solidFill>
                <a:latin typeface="Bookman Old Style"/>
              </a:rPr>
              <a:t>tʃ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Comic Sans MS"/>
              </a:rPr>
              <a:t>￥</a:t>
            </a:r>
            <a:r>
              <a:rPr b="1" lang="en-US" sz="4800" spc="-1" strike="noStrike">
                <a:solidFill>
                  <a:srgbClr val="99cc00"/>
                </a:solidFill>
                <a:latin typeface="Comic Sans MS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98900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The meat of a chicken used for food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4437000"/>
            <a:ext cx="5763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rcRect l="15041" t="18500" r="12210" b="15973"/>
          <a:stretch/>
        </p:blipFill>
        <p:spPr>
          <a:xfrm>
            <a:off x="395280" y="2349360"/>
            <a:ext cx="4608360" cy="3502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219640" y="2781360"/>
            <a:ext cx="354492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vege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5400" spc="-1" strike="noStrike">
                <a:solidFill>
                  <a:srgbClr val="cc0000"/>
                </a:solidFill>
                <a:latin typeface="Bookman Old Style"/>
              </a:rPr>
              <a:t>v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Comic Sans MS"/>
              </a:rPr>
              <a:t>￥</a:t>
            </a:r>
            <a:r>
              <a:rPr b="1" lang="en-US" sz="4800" spc="-1" strike="noStrike">
                <a:solidFill>
                  <a:srgbClr val="99cc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92720" y="3573360"/>
            <a:ext cx="43164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08:32:32Z</dcterms:created>
  <dc:creator>samsung</dc:creator>
  <dc:description/>
  <dc:language>en-US</dc:language>
  <cp:lastModifiedBy>samsung</cp:lastModifiedBy>
  <dcterms:modified xsi:type="dcterms:W3CDTF">2014-12-13T05:57:51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